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753225" cy="9842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753600" cy="984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6753240" cy="9842400"/>
          </a:xfrm>
          <a:custGeom>
            <a:avLst/>
            <a:gdLst>
              <a:gd name="textAreaLeft" fmla="*/ 360 w 6753240"/>
              <a:gd name="textAreaRight" fmla="*/ 6752880 w 6753240"/>
              <a:gd name="textAreaTop" fmla="*/ 360 h 9842400"/>
              <a:gd name="textAreaBottom" fmla="*/ 9842040 h 9842400"/>
            </a:gdLst>
            <a:ahLst/>
            <a:rect l="textAreaLeft" t="textAreaTop" r="textAreaRight" b="textAreaBottom"/>
            <a:pathLst>
              <a:path w="21600" h="31480">
                <a:moveTo>
                  <a:pt x="5" y="0"/>
                </a:moveTo>
                <a:arcTo wR="5" hR="5" stAng="16200000" swAng="-5400000"/>
                <a:lnTo>
                  <a:pt x="0" y="31475"/>
                </a:lnTo>
                <a:arcTo wR="5" hR="5" stAng="10800000" swAng="-5400000"/>
                <a:lnTo>
                  <a:pt x="21595" y="3148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0" y="0"/>
            <a:ext cx="29275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3825720" y="0"/>
            <a:ext cx="29275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917280" y="738360"/>
            <a:ext cx="4917960" cy="36892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r>
              <a:rPr b="0" lang="en-US" sz="3600" spc="-1" strike="noStrike">
                <a:solidFill>
                  <a:srgbClr val="527688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52768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76440" y="4675320"/>
            <a:ext cx="540216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0" y="9348840"/>
            <a:ext cx="29275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3"/>
          </p:nvPr>
        </p:nvSpPr>
        <p:spPr>
          <a:xfrm>
            <a:off x="3825720" y="9348840"/>
            <a:ext cx="292608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414E9E-6973-4F3B-B60F-C75006F4BD91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25720" y="9348840"/>
            <a:ext cx="2926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F76262-1FBD-487E-9986-5950DADF7237}" type="slidenum">
              <a:rPr b="0" lang="en-A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1"/>
          <p:cNvSpPr/>
          <p:nvPr/>
        </p:nvSpPr>
        <p:spPr>
          <a:xfrm>
            <a:off x="3825720" y="9348840"/>
            <a:ext cx="29275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1CE6008-0CB0-4A4F-A413-3F21C3A127FF}" type="slidenum">
              <a:rPr b="0" lang="en-A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952560" y="7621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72" name="Text Box 3"/>
          <p:cNvSpPr/>
          <p:nvPr/>
        </p:nvSpPr>
        <p:spPr>
          <a:xfrm>
            <a:off x="914400" y="4648320"/>
            <a:ext cx="4952880" cy="44193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6440" y="4675320"/>
            <a:ext cx="5402160" cy="44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A5971-556F-4207-8090-13C6F7E239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278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52768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816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14800"/>
            <a:ext cx="822816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CD55F-7B0F-4294-B205-17E5C36151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278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52768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08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916280"/>
            <a:ext cx="401508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14800"/>
            <a:ext cx="401508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3520" y="4114800"/>
            <a:ext cx="401508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13836-0048-42C2-BAA1-B90F194E8B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278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52768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26492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280" y="1916280"/>
            <a:ext cx="26492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1360" y="1916280"/>
            <a:ext cx="26492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14800"/>
            <a:ext cx="26492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280" y="4114800"/>
            <a:ext cx="26492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1360" y="4114800"/>
            <a:ext cx="26492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7457F-8415-4F1C-833E-0A3648496E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278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52768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916280"/>
            <a:ext cx="82281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357C2-2FF8-4672-B6CC-1962B4BCD4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278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52768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816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8E75A-0FA0-49DE-BABB-4E2FBDE4F2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278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52768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08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916280"/>
            <a:ext cx="401508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75EDA-AD99-4FB6-B0CD-437B2A137D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278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5276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5B0E9-750C-4518-915C-41B62A9B75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8000" y="764640"/>
            <a:ext cx="82278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BB78A-B01B-4245-9EC8-681B0C1A8F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278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52768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08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916280"/>
            <a:ext cx="401508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14800"/>
            <a:ext cx="401508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41717-BD24-4935-8BB2-C1ED640B49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278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52768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08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916280"/>
            <a:ext cx="401508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4114800"/>
            <a:ext cx="401508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57BE7-B1CB-4404-A7F1-24FCAEB585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278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52768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08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916280"/>
            <a:ext cx="401508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14800"/>
            <a:ext cx="822816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A4C68-869F-4233-A0AA-9614B4DF4D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6597720"/>
            <a:ext cx="9144000" cy="260280"/>
          </a:xfrm>
          <a:prstGeom prst="rect">
            <a:avLst/>
          </a:prstGeom>
          <a:solidFill>
            <a:srgbClr val="94b0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278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527688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527688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16280"/>
            <a:ext cx="822816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5724360" y="659772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95280" y="6597720"/>
            <a:ext cx="5038560" cy="1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A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ooter text goes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8100720" y="6597360"/>
            <a:ext cx="58428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A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24D572A-CBAE-4EA0-B3BC-AC3C1ECFB497}" type="slidenum">
              <a:rPr b="0" lang="en-A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8" descr=""/>
          <p:cNvPicPr/>
          <p:nvPr/>
        </p:nvPicPr>
        <p:blipFill>
          <a:blip r:embed="rId2"/>
          <a:stretch/>
        </p:blipFill>
        <p:spPr>
          <a:xfrm>
            <a:off x="468360" y="115920"/>
            <a:ext cx="1511280" cy="525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Placeholder 27" descr=""/>
          <p:cNvPicPr/>
          <p:nvPr/>
        </p:nvPicPr>
        <p:blipFill>
          <a:blip r:embed="rId1"/>
          <a:srcRect l="0" t="10452" r="0" b="10452"/>
          <a:stretch/>
        </p:blipFill>
        <p:spPr>
          <a:xfrm>
            <a:off x="6056280" y="4040280"/>
            <a:ext cx="2629080" cy="19746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"/>
          <p:cNvSpPr/>
          <p:nvPr/>
        </p:nvSpPr>
        <p:spPr>
          <a:xfrm>
            <a:off x="3780000" y="3459240"/>
            <a:ext cx="19429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fra 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5086440" y="6570720"/>
            <a:ext cx="3606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Annino Vaccarella - AN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Placeholder 60" descr=""/>
          <p:cNvPicPr/>
          <p:nvPr/>
        </p:nvPicPr>
        <p:blipFill>
          <a:blip r:embed="rId2"/>
          <a:stretch/>
        </p:blipFill>
        <p:spPr>
          <a:xfrm>
            <a:off x="-108000" y="2205000"/>
            <a:ext cx="3672000" cy="2664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2"/>
          <p:cNvSpPr/>
          <p:nvPr/>
        </p:nvSpPr>
        <p:spPr>
          <a:xfrm>
            <a:off x="468360" y="4673520"/>
            <a:ext cx="20876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1600" spc="-1" strike="noStrike">
                <a:solidFill>
                  <a:srgbClr val="0070c0"/>
                </a:solidFill>
                <a:latin typeface="Arial"/>
              </a:rPr>
              <a:t>GMTIF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1200" spc="-1" strike="noStrike">
                <a:solidFill>
                  <a:srgbClr val="0070c0"/>
                </a:solidFill>
                <a:latin typeface="Arial"/>
              </a:rPr>
              <a:t>2 x Teledyne H4RG-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1200" spc="-1" strike="noStrike">
                <a:solidFill>
                  <a:srgbClr val="0070c0"/>
                </a:solidFill>
                <a:latin typeface="Arial"/>
              </a:rPr>
              <a:t>Leonardo SAPHIRA eAP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Placeholder 53" descr=""/>
          <p:cNvPicPr/>
          <p:nvPr/>
        </p:nvPicPr>
        <p:blipFill>
          <a:blip r:embed="rId3"/>
          <a:stretch/>
        </p:blipFill>
        <p:spPr>
          <a:xfrm>
            <a:off x="4535640" y="811080"/>
            <a:ext cx="3039840" cy="21495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6156720" y="2306520"/>
            <a:ext cx="198360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1600" spc="-1" strike="noStrike">
                <a:solidFill>
                  <a:srgbClr val="0070c0"/>
                </a:solidFill>
                <a:latin typeface="Arial"/>
              </a:rPr>
              <a:t>Lucky Imag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1200" spc="-1" strike="noStrike">
                <a:solidFill>
                  <a:srgbClr val="0070c0"/>
                </a:solidFill>
                <a:latin typeface="Arial"/>
              </a:rPr>
              <a:t>Leonardo SAPHIRA eAP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2825640" y="1047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Detector Activity at ANU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Preparing for GMT and Space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4802040" y="5326200"/>
            <a:ext cx="20876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1600" spc="-1" strike="noStrike">
                <a:solidFill>
                  <a:srgbClr val="0070c0"/>
                </a:solidFill>
                <a:latin typeface="Arial"/>
              </a:rPr>
              <a:t>Skyhopp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1200" spc="-1" strike="noStrike">
                <a:solidFill>
                  <a:srgbClr val="0070c0"/>
                </a:solidFill>
                <a:latin typeface="Arial"/>
              </a:rPr>
              <a:t>Low Earth Orbit Cubes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1200" spc="-1" strike="noStrike">
                <a:solidFill>
                  <a:srgbClr val="0070c0"/>
                </a:solidFill>
                <a:latin typeface="Arial"/>
              </a:rPr>
              <a:t>Teledyne H2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1"/>
          <p:cNvSpPr/>
          <p:nvPr/>
        </p:nvSpPr>
        <p:spPr>
          <a:xfrm>
            <a:off x="6227640" y="6597720"/>
            <a:ext cx="273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Annino Vaccarella - AN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2844720" y="572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Detector Activity at ANU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Preparing for GMT and Space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3413160" y="2311560"/>
            <a:ext cx="18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Arial"/>
              </a:rPr>
              <a:t>Optical and Electron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55680" y="1917720"/>
            <a:ext cx="2681280" cy="20160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355680" y="4253040"/>
            <a:ext cx="3024000" cy="8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1600" spc="-1" strike="noStrike">
                <a:solidFill>
                  <a:srgbClr val="0070c0"/>
                </a:solidFill>
                <a:latin typeface="Arial"/>
              </a:rPr>
              <a:t>Velo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1200" spc="-1" strike="noStrike">
                <a:solidFill>
                  <a:srgbClr val="0070c0"/>
                </a:solidFill>
                <a:latin typeface="Arial"/>
              </a:rPr>
              <a:t>Multi arm Fibre fed Echelle Spectrograp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1200" spc="-1" strike="noStrike">
                <a:solidFill>
                  <a:srgbClr val="0070c0"/>
                </a:solidFill>
                <a:latin typeface="Arial"/>
              </a:rPr>
              <a:t>e2v CCD231-8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1200" spc="-1" strike="noStrike">
                <a:solidFill>
                  <a:srgbClr val="0070c0"/>
                </a:solidFill>
                <a:latin typeface="Arial"/>
              </a:rPr>
              <a:t>Cryogenic Preamplifier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2"/>
          <a:stretch/>
        </p:blipFill>
        <p:spPr>
          <a:xfrm>
            <a:off x="5654520" y="1063800"/>
            <a:ext cx="2640240" cy="19890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7"/>
          <p:cNvSpPr/>
          <p:nvPr/>
        </p:nvSpPr>
        <p:spPr>
          <a:xfrm>
            <a:off x="6227640" y="3141720"/>
            <a:ext cx="238140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1600" spc="-1" strike="noStrike">
                <a:solidFill>
                  <a:srgbClr val="0070c0"/>
                </a:solidFill>
                <a:latin typeface="Arial"/>
              </a:rPr>
              <a:t>Cryogenic Preamplifi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1200" spc="-1" strike="noStrike">
                <a:solidFill>
                  <a:srgbClr val="0070c0"/>
                </a:solidFill>
                <a:latin typeface="Arial"/>
              </a:rPr>
              <a:t>Both IR and CCD syste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1" descr=""/>
          <p:cNvPicPr/>
          <p:nvPr/>
        </p:nvPicPr>
        <p:blipFill>
          <a:blip r:embed="rId3"/>
          <a:stretch/>
        </p:blipFill>
        <p:spPr>
          <a:xfrm>
            <a:off x="3822840" y="3933720"/>
            <a:ext cx="34858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0T06:07:58Z</dcterms:created>
  <dc:creator>Peter Young</dc:creator>
  <dc:description/>
  <cp:keywords/>
  <dc:language>en-US</dc:language>
  <cp:lastModifiedBy>Annino Vaccarella</cp:lastModifiedBy>
  <cp:lastPrinted>1904-01-01T00:00:00Z</cp:lastPrinted>
  <dcterms:modified xsi:type="dcterms:W3CDTF">2017-09-21T06:49:26Z</dcterms:modified>
  <cp:revision>128</cp:revision>
  <dc:subject/>
  <dc:title>GMT/ANU Technical Workshop</dc:title>
</cp:coreProperties>
</file>