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8B9-0FD7-45B3-BB7C-62D4ABC4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411-81F0-42C3-9635-34CF61FF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2DA-15AE-4C08-9DE6-5E21ED3D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AE1-F952-4E62-9DCE-7678E4CC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78B9-6E46-43B8-A173-47DB4C67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F66C-8340-4CDB-8BEB-9A7E7A6D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E83F-B575-452D-B5A7-27449F4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B915-7FFB-405E-844A-EDFF4D84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A640-5FB6-4041-BC95-4FDB1BE0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32960" y="115920"/>
            <a:ext cx="61722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E977-2CBD-4F01-B48C-2A155A82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B5D0-78CB-43A6-845C-B19D99CA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2B8-1E3D-4447-866C-BB27FFEC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6AAD-15E1-4C0A-9193-123919C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1C37-969B-489F-B551-2F1964D8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FF86-FF17-4E3F-991E-119D7660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408B-EC2E-4493-9585-412156C2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5899-7AEC-48D4-8D3A-7FEB72D2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172-1695-4025-A262-A1B9125C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592-81FF-4B76-BEC3-5673134C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776-8507-4282-A540-F7D6B580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2960" y="115920"/>
            <a:ext cx="61722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2C5-458D-4A25-B326-4B355A6E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6B6-A44F-4C40-AB5A-D292ECD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1B6-AA63-4507-8624-984F6C9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494-319A-4CD4-AA14-1F0B14F7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4bd2"/>
                </a:solidFill>
                <a:latin typeface="Impact"/>
              </a:rPr>
              <a:t>Click to edit the title text format</a:t>
            </a: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-29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R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17CB-530A-47BA-BE5D-3F091919E0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-9360" y="990720"/>
            <a:ext cx="9144000" cy="0"/>
          </a:xfrm>
          <a:prstGeom prst="line">
            <a:avLst/>
          </a:prstGeom>
          <a:ln w="50760">
            <a:solidFill>
              <a:srgbClr val="041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Content Placeholder 4" descr="university.logo.large.horizontal.blue.pdf"/>
          <p:cNvPicPr/>
          <p:nvPr/>
        </p:nvPicPr>
        <p:blipFill>
          <a:blip r:embed="rId2"/>
          <a:srcRect l="0" t="-22109" r="0" b="-22109"/>
          <a:stretch/>
        </p:blipFill>
        <p:spPr>
          <a:xfrm>
            <a:off x="6872400" y="-262080"/>
            <a:ext cx="2436840" cy="15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traight Connector 6"/>
          <p:cNvSpPr/>
          <p:nvPr/>
        </p:nvSpPr>
        <p:spPr>
          <a:xfrm>
            <a:off x="-9360" y="990720"/>
            <a:ext cx="9144000" cy="0"/>
          </a:xfrm>
          <a:prstGeom prst="line">
            <a:avLst/>
          </a:prstGeom>
          <a:ln w="50760">
            <a:solidFill>
              <a:srgbClr val="041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ontent Placeholder 4" descr="university.logo.large.horizontal.blue.pdf"/>
          <p:cNvPicPr/>
          <p:nvPr/>
        </p:nvPicPr>
        <p:blipFill>
          <a:blip r:embed="rId2"/>
          <a:srcRect l="0" t="-22109" r="0" b="-22109"/>
          <a:stretch/>
        </p:blipFill>
        <p:spPr>
          <a:xfrm>
            <a:off x="6872400" y="-262080"/>
            <a:ext cx="2436840" cy="152244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457200" y="2057400"/>
            <a:ext cx="8077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4bd2"/>
                </a:solidFill>
                <a:latin typeface="Impact"/>
              </a:rPr>
              <a:t>PFS Near IR Camera P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685800" y="3352680"/>
            <a:ext cx="7772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bd2"/>
                </a:solidFill>
                <a:latin typeface="Impact"/>
              </a:rPr>
              <a:t>July 12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2057400" y="55627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PU/J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2960" y="11592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4bd2"/>
                </a:solidFill>
                <a:latin typeface="Impact"/>
              </a:rPr>
              <a:t>Click to edit the title text format</a:t>
            </a:r>
            <a:endParaRPr b="0" lang="en-US" sz="24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-29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R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159-E054-4AFB-9729-3B30B04934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063800"/>
            <a:ext cx="84265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4bd2"/>
                </a:solidFill>
                <a:latin typeface="Impact"/>
              </a:rPr>
              <a:t>Focal Plane Array Alignment and Cryogenic Surface Topography Measurements for the Prime Focus Spectrograph (PFS)</a:t>
            </a:r>
            <a:endParaRPr b="0" lang="en-US" sz="36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5600" y="271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rdock 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ptember 25,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ltimore, Maryl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5D6-FC1E-4A91-8074-0834131D2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PMU_logo1.jpg"/>
          <p:cNvPicPr/>
          <p:nvPr/>
        </p:nvPicPr>
        <p:blipFill>
          <a:blip r:embed="rId1"/>
          <a:stretch/>
        </p:blipFill>
        <p:spPr>
          <a:xfrm>
            <a:off x="574560" y="4044960"/>
            <a:ext cx="1844640" cy="77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naoj_logo.gif"/>
          <p:cNvPicPr/>
          <p:nvPr/>
        </p:nvPicPr>
        <p:blipFill>
          <a:blip r:embed="rId2"/>
          <a:stretch/>
        </p:blipFill>
        <p:spPr>
          <a:xfrm>
            <a:off x="574560" y="4881600"/>
            <a:ext cx="1844640" cy="1052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PL_logo.png"/>
          <p:cNvPicPr/>
          <p:nvPr/>
        </p:nvPicPr>
        <p:blipFill>
          <a:blip r:embed="rId3"/>
          <a:stretch/>
        </p:blipFill>
        <p:spPr>
          <a:xfrm>
            <a:off x="574560" y="5979960"/>
            <a:ext cx="1925640" cy="78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C:\Users\smee\Desktop\princeton_logo.jpg"/>
          <p:cNvPicPr/>
          <p:nvPr/>
        </p:nvPicPr>
        <p:blipFill>
          <a:blip r:embed="rId4"/>
          <a:stretch/>
        </p:blipFill>
        <p:spPr>
          <a:xfrm>
            <a:off x="2747880" y="4295880"/>
            <a:ext cx="2046240" cy="58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lam_logo.jpg"/>
          <p:cNvPicPr/>
          <p:nvPr/>
        </p:nvPicPr>
        <p:blipFill>
          <a:blip r:embed="rId5"/>
          <a:stretch/>
        </p:blipFill>
        <p:spPr>
          <a:xfrm>
            <a:off x="5659560" y="5707080"/>
            <a:ext cx="2689200" cy="860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lna_logo.png"/>
          <p:cNvPicPr/>
          <p:nvPr/>
        </p:nvPicPr>
        <p:blipFill>
          <a:blip r:embed="rId6"/>
          <a:stretch/>
        </p:blipFill>
        <p:spPr>
          <a:xfrm>
            <a:off x="5532480" y="4295880"/>
            <a:ext cx="2241360" cy="59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op_logo.png"/>
          <p:cNvPicPr/>
          <p:nvPr/>
        </p:nvPicPr>
        <p:blipFill>
          <a:blip r:embed="rId7"/>
          <a:stretch/>
        </p:blipFill>
        <p:spPr>
          <a:xfrm>
            <a:off x="2313000" y="4627440"/>
            <a:ext cx="311796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altech_logo.jpg"/>
          <p:cNvPicPr/>
          <p:nvPr/>
        </p:nvPicPr>
        <p:blipFill>
          <a:blip r:embed="rId8"/>
          <a:stretch/>
        </p:blipFill>
        <p:spPr>
          <a:xfrm>
            <a:off x="2747880" y="5587920"/>
            <a:ext cx="1168560" cy="1168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774px-Sinica_logo.png"/>
          <p:cNvPicPr/>
          <p:nvPr/>
        </p:nvPicPr>
        <p:blipFill>
          <a:blip r:embed="rId9"/>
          <a:stretch/>
        </p:blipFill>
        <p:spPr>
          <a:xfrm>
            <a:off x="4159080" y="5448240"/>
            <a:ext cx="12718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7A7E-EF71-4A0C-8742-7114D60A5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3280" y="115920"/>
            <a:ext cx="8228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4bd2"/>
                </a:solidFill>
                <a:latin typeface="Impact"/>
              </a:rPr>
              <a:t>Focal Plane Array Alignment and Cryogenic Surface Topography Measurements for the Prime Focus Spectrograph </a:t>
            </a:r>
            <a:endParaRPr b="0" lang="en-US" sz="2000" spc="-1" strike="noStrike">
              <a:solidFill>
                <a:srgbClr val="324bd2"/>
              </a:solidFill>
              <a:latin typeface="Impact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97920" y="6492960"/>
            <a:ext cx="576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rdock Hart     September 25, 2017    SDW2017 Baltimore, Mary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onfocal_measurement.png"/>
          <p:cNvPicPr/>
          <p:nvPr/>
        </p:nvPicPr>
        <p:blipFill>
          <a:blip r:embed="rId1"/>
          <a:stretch/>
        </p:blipFill>
        <p:spPr>
          <a:xfrm>
            <a:off x="4379760" y="1125360"/>
            <a:ext cx="4592880" cy="33782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488880" y="12268080"/>
            <a:ext cx="85788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icro-Epsilon confocalDT-245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te light confocal microsc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 micron spot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 0.1 micron 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Wenzel XO-87 Coordinate Measur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cision posi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 0.3 micron 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acuum Cry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asurement performed thru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bient and cryogenic capabil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31840" y="1125000"/>
            <a:ext cx="41479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icro-Epsilon confocalDT-245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White light confocal microsco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&lt; 0.1 micron err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Wenzel XO-87 Coordinate Measuring Mach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&lt; 0.3 micron err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Vacuum Cryost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Measurement performed thru wind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mbient and cryogenic capabili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16 CCDs measured average RMS 1.4 micr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8 FPAs assembled average RMS 1.6 micr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Selective thickness invar shims used for adjust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FPA_coplanarity_distribution.png"/>
          <p:cNvPicPr/>
          <p:nvPr/>
        </p:nvPicPr>
        <p:blipFill>
          <a:blip r:embed="rId2"/>
          <a:stretch/>
        </p:blipFill>
        <p:spPr>
          <a:xfrm>
            <a:off x="5129280" y="4968720"/>
            <a:ext cx="2446200" cy="136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cd_flatness_distribution.png"/>
          <p:cNvPicPr/>
          <p:nvPr/>
        </p:nvPicPr>
        <p:blipFill>
          <a:blip r:embed="rId3"/>
          <a:stretch/>
        </p:blipFill>
        <p:spPr>
          <a:xfrm>
            <a:off x="1825560" y="4968720"/>
            <a:ext cx="24447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2EE5-AFF1-4B8B-A737-F166C192D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97920" y="6492960"/>
            <a:ext cx="576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rdock Hart     September 25, 2017    SDW2017 Baltimore, Mary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3280" y="115920"/>
            <a:ext cx="8228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4bd2"/>
                </a:solidFill>
                <a:latin typeface="Impact"/>
              </a:rPr>
              <a:t>Focal Plane Array Alignment and Cryogenic Surface Topography Measurements for the Prime Focus Spectrograph </a:t>
            </a:r>
            <a:endParaRPr b="0" lang="en-US" sz="2000" spc="-1" strike="noStrike">
              <a:solidFill>
                <a:srgbClr val="324bd2"/>
              </a:solidFill>
              <a:latin typeface="Impact"/>
            </a:endParaRPr>
          </a:p>
        </p:txBody>
      </p:sp>
      <p:pic>
        <p:nvPicPr>
          <p:cNvPr id="112" name="Picture 3" descr="topography_FPA_warm.png"/>
          <p:cNvPicPr/>
          <p:nvPr/>
        </p:nvPicPr>
        <p:blipFill>
          <a:blip r:embed="rId1"/>
          <a:stretch/>
        </p:blipFill>
        <p:spPr>
          <a:xfrm>
            <a:off x="73080" y="3152880"/>
            <a:ext cx="4470480" cy="2687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topography_fpa_difference.png"/>
          <p:cNvPicPr/>
          <p:nvPr/>
        </p:nvPicPr>
        <p:blipFill>
          <a:blip r:embed="rId2"/>
          <a:stretch/>
        </p:blipFill>
        <p:spPr>
          <a:xfrm>
            <a:off x="4519440" y="3152880"/>
            <a:ext cx="4470480" cy="2687400"/>
          </a:xfrm>
          <a:prstGeom prst="rect">
            <a:avLst/>
          </a:prstGeom>
          <a:ln w="0">
            <a:noFill/>
          </a:ln>
        </p:spPr>
      </p:pic>
      <p:sp>
        <p:nvSpPr>
          <p:cNvPr id="114" name="Content Placeholder 2"/>
          <p:cNvSpPr/>
          <p:nvPr/>
        </p:nvSpPr>
        <p:spPr>
          <a:xfrm>
            <a:off x="71280" y="1093680"/>
            <a:ext cx="92203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mbient and operating temperature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24b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CDs and CMOS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ifference topographies shows the effects of thermal cycling on the surface top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24b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Thermal cycling had a negligible impact upon the surface topogrpahy 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5:32:29Z</dcterms:created>
  <dc:creator>Murdock Hart</dc:creator>
  <dc:description/>
  <dc:language>en-US</dc:language>
  <cp:lastModifiedBy>Murdock Hart</cp:lastModifiedBy>
  <dcterms:modified xsi:type="dcterms:W3CDTF">2017-09-24T21:27:19Z</dcterms:modified>
  <cp:revision>11</cp:revision>
  <dc:subject/>
  <dc:title>PowerPoint Presentation</dc:title>
</cp:coreProperties>
</file>